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6661-9CD0-4705-A282-848EBB036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17B0-E529-44B1-B6AE-6DD441D0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BE8A-649E-495A-BFD0-B3A0058FF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0785-A8B8-4246-9418-BD06A306C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38DF-D3EA-4C41-B784-3865D544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E1FE-D086-46A1-BFC3-61D08768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4290-85D6-4A45-9B2E-0497FC2E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2582-BC90-490C-825B-2DFD9204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1987-4D28-4984-B9E3-E23600A2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502B-AB95-40DD-9942-4F72D0D2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4813-F09D-4090-9594-B925C861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F067-5E31-42C4-8370-DC90BD2D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64C8-2B72-412B-A275-2744E8F84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5181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 9-1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can discover the meaning of unknown wor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32004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y do you think it is important to know a lot of words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867280" y="0"/>
            <a:ext cx="2792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at is the definition of the prefix in the word below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45720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at is the definition of the prefix in the word below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oncussio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67480" y="49528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 this wor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perforat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1523880" y="4876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 this wor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onser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1371600" y="4343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 this wor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expeditio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1523880" y="49528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rrectly use this word in a sentenc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Permeat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1" action="ppaction://hlinksldjump"/>
          </p:cNvPr>
          <p:cNvSpPr/>
          <p:nvPr/>
        </p:nvSpPr>
        <p:spPr>
          <a:xfrm>
            <a:off x="990720" y="50292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rrectly use this word in a sentenc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ompanio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91440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rrectly use this word in a sentenc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excessiv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53352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s you read, try to learn two new words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t us know if you come across our prefixes of the day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it S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blanks on your exit sli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con, com= ________, together,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e-,ex-,ef-=  Out,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per= ____________, ___________, wrong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/Com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on/Com= with, together, very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563868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57200" y="304920"/>
          <a:ext cx="8229600" cy="6171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7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-, ex-, ef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, 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089240" y="228600"/>
            <a:ext cx="44643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= through, thorough, wrong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>
            <a:hlinkClick r:id="rId1" action="ppaction://hlinksldjump"/>
          </p:cNvPr>
          <p:cNvSpPr/>
          <p:nvPr/>
        </p:nvSpPr>
        <p:spPr>
          <a:xfrm>
            <a:off x="762120" y="609480"/>
            <a:ext cx="1981080" cy="1752840"/>
          </a:xfrm>
          <a:custGeom>
            <a:avLst/>
            <a:gdLst>
              <a:gd name="textAreaLeft" fmla="*/ 113400 w 1981080"/>
              <a:gd name="textAreaRight" fmla="*/ 1867680 w 198108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24412" h="21600">
                <a:moveTo>
                  <a:pt x="0" y="0"/>
                </a:moveTo>
                <a:lnTo>
                  <a:pt x="24412" y="0"/>
                </a:lnTo>
                <a:lnTo>
                  <a:pt x="24412" y="21600"/>
                </a:lnTo>
                <a:lnTo>
                  <a:pt x="0" y="21600"/>
                </a:lnTo>
                <a:close/>
              </a:path>
              <a:path fill="lightenLess" w="24412" h="21600">
                <a:moveTo>
                  <a:pt x="0" y="0"/>
                </a:moveTo>
                <a:lnTo>
                  <a:pt x="24412" y="0"/>
                </a:lnTo>
                <a:lnTo>
                  <a:pt x="23012" y="1400"/>
                </a:lnTo>
                <a:lnTo>
                  <a:pt x="1400" y="1400"/>
                </a:lnTo>
                <a:close/>
              </a:path>
              <a:path fill="darken" w="24412" h="21600">
                <a:moveTo>
                  <a:pt x="24412" y="0"/>
                </a:moveTo>
                <a:lnTo>
                  <a:pt x="24412" y="21600"/>
                </a:lnTo>
                <a:lnTo>
                  <a:pt x="23012" y="20200"/>
                </a:lnTo>
                <a:lnTo>
                  <a:pt x="23012" y="1400"/>
                </a:lnTo>
                <a:close/>
              </a:path>
              <a:path fill="darkenLess" w="24412" h="21600">
                <a:moveTo>
                  <a:pt x="24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12" y="20200"/>
                </a:lnTo>
                <a:close/>
              </a:path>
              <a:path fill="lighten" w="24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09480"/>
            <a:ext cx="2133720" cy="1676520"/>
          </a:xfrm>
          <a:custGeom>
            <a:avLst/>
            <a:gdLst>
              <a:gd name="textAreaLeft" fmla="*/ 108360 w 2133720"/>
              <a:gd name="textAreaRight" fmla="*/ 2025360 w 213372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7489" h="21600">
                <a:moveTo>
                  <a:pt x="0" y="0"/>
                </a:moveTo>
                <a:lnTo>
                  <a:pt x="27489" y="0"/>
                </a:lnTo>
                <a:lnTo>
                  <a:pt x="27489" y="21600"/>
                </a:lnTo>
                <a:lnTo>
                  <a:pt x="0" y="21600"/>
                </a:lnTo>
                <a:close/>
              </a:path>
              <a:path fill="lightenLess" w="27489" h="21600">
                <a:moveTo>
                  <a:pt x="0" y="0"/>
                </a:moveTo>
                <a:lnTo>
                  <a:pt x="27489" y="0"/>
                </a:lnTo>
                <a:lnTo>
                  <a:pt x="26089" y="1400"/>
                </a:lnTo>
                <a:lnTo>
                  <a:pt x="1400" y="1400"/>
                </a:lnTo>
                <a:close/>
              </a:path>
              <a:path fill="darken" w="27489" h="21600">
                <a:moveTo>
                  <a:pt x="27489" y="0"/>
                </a:moveTo>
                <a:lnTo>
                  <a:pt x="27489" y="21600"/>
                </a:lnTo>
                <a:lnTo>
                  <a:pt x="26089" y="20200"/>
                </a:lnTo>
                <a:lnTo>
                  <a:pt x="26089" y="1400"/>
                </a:lnTo>
                <a:close/>
              </a:path>
              <a:path fill="darkenLess" w="27489" h="21600">
                <a:moveTo>
                  <a:pt x="274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9" y="20200"/>
                </a:lnTo>
                <a:close/>
              </a:path>
              <a:path fill="lighten" w="274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609480"/>
            <a:ext cx="1904760" cy="1676520"/>
          </a:xfrm>
          <a:custGeom>
            <a:avLst/>
            <a:gdLst>
              <a:gd name="textAreaLeft" fmla="*/ 108360 w 1904760"/>
              <a:gd name="textAreaRight" fmla="*/ 1796400 w 190476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4540" h="21600">
                <a:moveTo>
                  <a:pt x="0" y="0"/>
                </a:moveTo>
                <a:lnTo>
                  <a:pt x="24540" y="0"/>
                </a:lnTo>
                <a:lnTo>
                  <a:pt x="24540" y="21600"/>
                </a:lnTo>
                <a:lnTo>
                  <a:pt x="0" y="21600"/>
                </a:lnTo>
                <a:close/>
              </a:path>
              <a:path fill="lightenLess" w="24540" h="21600">
                <a:moveTo>
                  <a:pt x="0" y="0"/>
                </a:moveTo>
                <a:lnTo>
                  <a:pt x="24540" y="0"/>
                </a:lnTo>
                <a:lnTo>
                  <a:pt x="23140" y="1400"/>
                </a:lnTo>
                <a:lnTo>
                  <a:pt x="1400" y="1400"/>
                </a:lnTo>
                <a:close/>
              </a:path>
              <a:path fill="darken" w="24540" h="21600">
                <a:moveTo>
                  <a:pt x="24540" y="0"/>
                </a:moveTo>
                <a:lnTo>
                  <a:pt x="24540" y="21600"/>
                </a:lnTo>
                <a:lnTo>
                  <a:pt x="23140" y="20200"/>
                </a:lnTo>
                <a:lnTo>
                  <a:pt x="23140" y="1400"/>
                </a:lnTo>
                <a:close/>
              </a:path>
              <a:path fill="darkenLess" w="24540" h="21600">
                <a:moveTo>
                  <a:pt x="2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40" y="20200"/>
                </a:lnTo>
                <a:close/>
              </a:path>
              <a:path fill="lighten" w="2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2666880"/>
            <a:ext cx="1981080" cy="1676520"/>
          </a:xfrm>
          <a:custGeom>
            <a:avLst/>
            <a:gdLst>
              <a:gd name="textAreaLeft" fmla="*/ 108360 w 1981080"/>
              <a:gd name="textAreaRight" fmla="*/ 1872720 w 198108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2666880"/>
            <a:ext cx="1904760" cy="1600200"/>
          </a:xfrm>
          <a:custGeom>
            <a:avLst/>
            <a:gdLst>
              <a:gd name="textAreaLeft" fmla="*/ 103680 w 1904760"/>
              <a:gd name="textAreaRight" fmla="*/ 1801080 w 190476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5710" h="21600">
                <a:moveTo>
                  <a:pt x="0" y="0"/>
                </a:moveTo>
                <a:lnTo>
                  <a:pt x="25710" y="0"/>
                </a:lnTo>
                <a:lnTo>
                  <a:pt x="25710" y="21600"/>
                </a:lnTo>
                <a:lnTo>
                  <a:pt x="0" y="21600"/>
                </a:lnTo>
                <a:close/>
              </a:path>
              <a:path fill="lightenLess" w="25710" h="21600">
                <a:moveTo>
                  <a:pt x="0" y="0"/>
                </a:moveTo>
                <a:lnTo>
                  <a:pt x="25710" y="0"/>
                </a:lnTo>
                <a:lnTo>
                  <a:pt x="24310" y="1400"/>
                </a:lnTo>
                <a:lnTo>
                  <a:pt x="1400" y="1400"/>
                </a:lnTo>
                <a:close/>
              </a:path>
              <a:path fill="darken" w="25710" h="21600">
                <a:moveTo>
                  <a:pt x="25710" y="0"/>
                </a:moveTo>
                <a:lnTo>
                  <a:pt x="25710" y="21600"/>
                </a:lnTo>
                <a:lnTo>
                  <a:pt x="24310" y="20200"/>
                </a:lnTo>
                <a:lnTo>
                  <a:pt x="24310" y="1400"/>
                </a:lnTo>
                <a:close/>
              </a:path>
              <a:path fill="darkenLess" w="25710" h="21600">
                <a:moveTo>
                  <a:pt x="25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10" y="20200"/>
                </a:lnTo>
                <a:close/>
              </a:path>
              <a:path fill="lighten" w="25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666880"/>
            <a:ext cx="1981440" cy="1676520"/>
          </a:xfrm>
          <a:custGeom>
            <a:avLst/>
            <a:gdLst>
              <a:gd name="textAreaLeft" fmla="*/ 108360 w 1981440"/>
              <a:gd name="textAreaRight" fmla="*/ 1873080 w 198144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5528" h="21600">
                <a:moveTo>
                  <a:pt x="0" y="0"/>
                </a:moveTo>
                <a:lnTo>
                  <a:pt x="25528" y="0"/>
                </a:lnTo>
                <a:lnTo>
                  <a:pt x="25528" y="21600"/>
                </a:lnTo>
                <a:lnTo>
                  <a:pt x="0" y="21600"/>
                </a:lnTo>
                <a:close/>
              </a:path>
              <a:path fill="lightenLess" w="25528" h="21600">
                <a:moveTo>
                  <a:pt x="0" y="0"/>
                </a:moveTo>
                <a:lnTo>
                  <a:pt x="25528" y="0"/>
                </a:lnTo>
                <a:lnTo>
                  <a:pt x="24128" y="1400"/>
                </a:lnTo>
                <a:lnTo>
                  <a:pt x="1400" y="1400"/>
                </a:lnTo>
                <a:close/>
              </a:path>
              <a:path fill="darken" w="25528" h="21600">
                <a:moveTo>
                  <a:pt x="25528" y="0"/>
                </a:moveTo>
                <a:lnTo>
                  <a:pt x="25528" y="21600"/>
                </a:lnTo>
                <a:lnTo>
                  <a:pt x="24128" y="20200"/>
                </a:lnTo>
                <a:lnTo>
                  <a:pt x="24128" y="1400"/>
                </a:lnTo>
                <a:close/>
              </a:path>
              <a:path fill="darkenLess" w="25528" h="21600">
                <a:moveTo>
                  <a:pt x="255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8" y="20200"/>
                </a:lnTo>
                <a:close/>
              </a:path>
              <a:path fill="lighten" w="255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4800600"/>
            <a:ext cx="1981080" cy="1576440"/>
          </a:xfrm>
          <a:custGeom>
            <a:avLst/>
            <a:gdLst>
              <a:gd name="textAreaLeft" fmla="*/ 101880 w 1981080"/>
              <a:gd name="textAreaRight" fmla="*/ 1879200 w 1981080"/>
              <a:gd name="textAreaTop" fmla="*/ 101880 h 1576440"/>
              <a:gd name="textAreaBottom" fmla="*/ 1474560 h 1576440"/>
            </a:gdLst>
            <a:ahLst/>
            <a:rect l="textAreaLeft" t="textAreaTop" r="textAreaRight" b="textAreaBottom"/>
            <a:pathLst>
              <a:path w="27143" h="21600">
                <a:moveTo>
                  <a:pt x="0" y="0"/>
                </a:moveTo>
                <a:lnTo>
                  <a:pt x="27143" y="0"/>
                </a:lnTo>
                <a:lnTo>
                  <a:pt x="27143" y="21600"/>
                </a:lnTo>
                <a:lnTo>
                  <a:pt x="0" y="21600"/>
                </a:lnTo>
                <a:close/>
              </a:path>
              <a:path fill="lightenLess" w="27143" h="21600">
                <a:moveTo>
                  <a:pt x="0" y="0"/>
                </a:moveTo>
                <a:lnTo>
                  <a:pt x="27143" y="0"/>
                </a:lnTo>
                <a:lnTo>
                  <a:pt x="25743" y="1400"/>
                </a:lnTo>
                <a:lnTo>
                  <a:pt x="1400" y="1400"/>
                </a:lnTo>
                <a:close/>
              </a:path>
              <a:path fill="darken" w="27143" h="21600">
                <a:moveTo>
                  <a:pt x="27143" y="0"/>
                </a:moveTo>
                <a:lnTo>
                  <a:pt x="27143" y="21600"/>
                </a:lnTo>
                <a:lnTo>
                  <a:pt x="25743" y="20200"/>
                </a:lnTo>
                <a:lnTo>
                  <a:pt x="25743" y="1400"/>
                </a:lnTo>
                <a:close/>
              </a:path>
              <a:path fill="darkenLess" w="27143" h="21600">
                <a:moveTo>
                  <a:pt x="27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743" y="20200"/>
                </a:lnTo>
                <a:close/>
              </a:path>
              <a:path fill="lighten" w="27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800600"/>
            <a:ext cx="2057400" cy="1600200"/>
          </a:xfrm>
          <a:custGeom>
            <a:avLst/>
            <a:gdLst>
              <a:gd name="textAreaLeft" fmla="*/ 103680 w 2057400"/>
              <a:gd name="textAreaRight" fmla="*/ 1953720 w 20574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7770" h="21600">
                <a:moveTo>
                  <a:pt x="0" y="0"/>
                </a:moveTo>
                <a:lnTo>
                  <a:pt x="27770" y="0"/>
                </a:lnTo>
                <a:lnTo>
                  <a:pt x="27770" y="21600"/>
                </a:lnTo>
                <a:lnTo>
                  <a:pt x="0" y="21600"/>
                </a:lnTo>
                <a:close/>
              </a:path>
              <a:path fill="lightenLess" w="27770" h="21600">
                <a:moveTo>
                  <a:pt x="0" y="0"/>
                </a:moveTo>
                <a:lnTo>
                  <a:pt x="27770" y="0"/>
                </a:lnTo>
                <a:lnTo>
                  <a:pt x="26370" y="1400"/>
                </a:lnTo>
                <a:lnTo>
                  <a:pt x="1400" y="1400"/>
                </a:lnTo>
                <a:close/>
              </a:path>
              <a:path fill="darken" w="27770" h="21600">
                <a:moveTo>
                  <a:pt x="27770" y="0"/>
                </a:moveTo>
                <a:lnTo>
                  <a:pt x="27770" y="21600"/>
                </a:lnTo>
                <a:lnTo>
                  <a:pt x="26370" y="20200"/>
                </a:lnTo>
                <a:lnTo>
                  <a:pt x="26370" y="1400"/>
                </a:lnTo>
                <a:close/>
              </a:path>
              <a:path fill="darkenLess" w="27770" h="21600">
                <a:moveTo>
                  <a:pt x="27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0" y="20200"/>
                </a:lnTo>
                <a:close/>
              </a:path>
              <a:path fill="lighten" w="27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43600" y="4724280"/>
            <a:ext cx="1981080" cy="1600200"/>
          </a:xfrm>
          <a:custGeom>
            <a:avLst/>
            <a:gdLst>
              <a:gd name="textAreaLeft" fmla="*/ 103680 w 1981080"/>
              <a:gd name="textAreaRight" fmla="*/ 1877400 w 198108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6740" h="21600">
                <a:moveTo>
                  <a:pt x="0" y="0"/>
                </a:moveTo>
                <a:lnTo>
                  <a:pt x="26740" y="0"/>
                </a:lnTo>
                <a:lnTo>
                  <a:pt x="26740" y="21600"/>
                </a:lnTo>
                <a:lnTo>
                  <a:pt x="0" y="21600"/>
                </a:lnTo>
                <a:close/>
              </a:path>
              <a:path fill="lightenLess" w="26740" h="21600">
                <a:moveTo>
                  <a:pt x="0" y="0"/>
                </a:moveTo>
                <a:lnTo>
                  <a:pt x="26740" y="0"/>
                </a:lnTo>
                <a:lnTo>
                  <a:pt x="25340" y="1400"/>
                </a:lnTo>
                <a:lnTo>
                  <a:pt x="1400" y="1400"/>
                </a:lnTo>
                <a:close/>
              </a:path>
              <a:path fill="darken" w="26740" h="21600">
                <a:moveTo>
                  <a:pt x="26740" y="0"/>
                </a:moveTo>
                <a:lnTo>
                  <a:pt x="26740" y="21600"/>
                </a:lnTo>
                <a:lnTo>
                  <a:pt x="25340" y="20200"/>
                </a:lnTo>
                <a:lnTo>
                  <a:pt x="25340" y="1400"/>
                </a:lnTo>
                <a:close/>
              </a:path>
              <a:path fill="darkenLess" w="26740" h="21600">
                <a:moveTo>
                  <a:pt x="267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40" y="20200"/>
                </a:lnTo>
                <a:close/>
              </a:path>
              <a:path fill="lighten" w="267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hat is the definition of the prefix in the word below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419076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exal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1" action="ppaction://hlinksldjump"/>
          </p:cNvPr>
          <p:cNvSpPr/>
          <p:nvPr/>
        </p:nvSpPr>
        <p:spPr>
          <a:xfrm>
            <a:off x="838080" y="5257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02:27:22Z</dcterms:created>
  <dc:creator>Administrator</dc:creator>
  <dc:description/>
  <dc:language>en-US</dc:language>
  <cp:lastModifiedBy>Administrator</cp:lastModifiedBy>
  <dcterms:modified xsi:type="dcterms:W3CDTF">2010-09-15T19:12:53Z</dcterms:modified>
  <cp:revision>6</cp:revision>
  <dc:subject/>
  <dc:title>Do Now 9-15 I can discover the meaning of unknown words.</dc:title>
</cp:coreProperties>
</file>